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C05-A24F-4C34-B918-AA984165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476F-AE1D-4133-A75E-F48BFE259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2C010-F0DC-4B85-AB52-83D8CDEB9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11CC-431F-4B39-A11A-B0315C447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AA56-D64A-4DB5-872B-C542A543B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D23C5-8163-4E25-A8CE-F35BF520F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9D0F-6382-40BC-9DFE-E7D8D6FD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76F1-4454-4360-A470-7AEDC1113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1462-2E07-4939-A25A-1775EF36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2356A-7CE3-4872-ACB9-B081C898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70BBA-F9DB-4A18-BFDC-29E143C4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4687-3D42-4D93-AA7A-1EB76B7F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2931-A122-4C55-A706-69E58E6E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7DAE9-0CB4-47C1-A5E6-C9D798DA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457CE-3D99-4C3E-A093-D1A1C6C5C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D465-ECC4-484D-A572-6E4A09FB5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FEB4-D1FA-4D89-98ED-55199A97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86E8-6C36-456A-A021-A1F9DEEBC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D0A8-BB1E-471D-AC5F-81A31035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6C3-2A42-4636-899D-5440A28F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8024-49F6-4424-8798-D03F0434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94D7-2C5F-459B-AC0B-857093B5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6839E-7961-4676-A0F9-1A48425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7DA6-313D-4973-B8F0-383596C16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93EF-1949-4164-B011-B1A68E1B9023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D7C7-A47B-453C-90D5-1AC66930B61E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Единый государственный экзамен как форма оценки образовательных достижений учащихся по экологии</a:t>
            </a:r>
            <a:endParaRPr b="1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66"/>
                </a:solidFill>
                <a:latin typeface="Arial"/>
              </a:rPr>
              <a:t>Ловкова Т. А.доцент кафедры естественно-математического и географического образования ВИПКРО, канд. биол. наук. Заслуженный учитель РФ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«Единый государственный экзамен выступает как способ достижения  единых требований  в области образования, создания объективной стандартизованной оценки достижения выпускников»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линова Г. С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одержательные линии ЕГЭ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иология – наука живой природе. Вклад ученых в ее развити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летка как биологическая сис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рганизм как биологическая сите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Многообразие организм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Человек и его здоровь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дорганизменные системы. Эволюция органического мир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Экосистемы и присущие им  закономерност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полнение заданий части 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 волна 56,8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 волна 54,7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140360" y="2421000"/>
          <a:ext cx="4392360" cy="2090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0360" y="2421000"/>
                    <a:ext cx="4392360" cy="209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826920" y="4581360"/>
          <a:ext cx="4392720" cy="2090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581360"/>
                    <a:ext cx="4392720" cy="209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Выполнение заданий части В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2362320"/>
            <a:ext cx="3878280" cy="193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Установление последовательности экологических закономерностей биологических объект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971640" y="4508640"/>
          <a:ext cx="4248000" cy="202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4508640"/>
                    <a:ext cx="4248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4500720" y="2421000"/>
          <a:ext cx="4248000" cy="2022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00720" y="2421000"/>
                    <a:ext cx="4248000" cy="20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Сопоставление результатов выполнения заданий части А разных содержательных линий 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900000" y="2276640"/>
          <a:ext cx="7488360" cy="439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276640"/>
                    <a:ext cx="7488360" cy="439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horz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0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9799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Выводы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1. Результаты единого государственного экзамена показали недостаточную подготовку учащихся по экологии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2. 57,4% выпускников и абитуриентов усвоили  базовый, 32.9% - повышенный и  9,7% - высокий  уровень  содержания курса биологи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3. На этапе итоговой  аттестации и вступительных испытаний наибольшие трудности у учащихся возникли при выполнении  всех заданий части С: свободном ответе на поставленный вопрос; обозначении частей биологического объекта с указанием их функций, выборе и обосновании правильных предложений  из предложенного текста;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4. Формой подготовки к ЕГЭ должен быть не только урок, но и экскурсии, факультативы, элективные курсы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Спасибо 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3366"/>
                </a:solidFill>
                <a:latin typeface="Arial"/>
              </a:rPr>
              <a:t>за внимание</a:t>
            </a:r>
            <a:endParaRPr b="0" lang="en-US" sz="5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8T14:14:05Z</dcterms:created>
  <dc:creator>Lanser Client</dc:creator>
  <dc:description/>
  <dc:language>en-US</dc:language>
  <cp:lastModifiedBy>Lanser Client</cp:lastModifiedBy>
  <dcterms:modified xsi:type="dcterms:W3CDTF">2007-12-19T19:45:51Z</dcterms:modified>
  <cp:revision>13</cp:revision>
  <dc:subject/>
  <dc:title>Единый гсударственный экзамен как форма оценки образовательных достижений учащихся</dc:title>
</cp:coreProperties>
</file>